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372-A38E-467E-8566-C7788875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4DF-DA5B-4CBF-9554-16C0C28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4D5-9672-4077-950D-B690EB6F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4D5-EFCB-4468-897E-6DBB0BB2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D10-E49F-4B8B-AEF5-5EEAE387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010-FE45-4B91-ABE2-161AA15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5B4-6CA1-436B-972B-4BD2F29A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C4B-3386-4D7E-AF6F-6666814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851-1146-4A10-9CD0-4404D677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50D-0EFE-4D27-B438-491F9CC2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D795-BE7C-47EE-846D-FF1D830D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B6A-7D4E-4B01-BE43-FFBF828F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AD0-0E34-425A-9EEB-A92AFAEC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084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3640" y="33336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AD safe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e careful! Dangerous turns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THE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FIC LIGHTS!!!!!!!!!!!!!!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6913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RIVE AROUND THE CIRC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85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P!!!!!!!!!!!!!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6551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LP THE DISABLED!!!!!!!!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360" y="242100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2:14:32Z</dcterms:created>
  <dc:creator>user</dc:creator>
  <dc:description/>
  <dc:language>en-US</dc:language>
  <cp:lastModifiedBy>user</cp:lastModifiedBy>
  <dcterms:modified xsi:type="dcterms:W3CDTF">2013-04-09T12:38:06Z</dcterms:modified>
  <cp:revision>3</cp:revision>
  <dc:subject/>
  <dc:title>ROAD safety </dc:title>
</cp:coreProperties>
</file>